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CA0-5B90-4D2E-8615-8954AB9F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27E-1B26-4D5F-A576-5068141D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3C9-1CB5-4D04-B45C-77BFF235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C13-A89F-49AF-BA99-2B88D454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C127-AD19-431F-8DEE-678495BF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B9EE-5CE5-43EE-A8FC-D39ED9EE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2C7D-2F23-4D4C-A80A-B0EC85B9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8E07-0D1A-4B55-9705-CB90B3BE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1CA1-E9FF-4D1C-B861-D966816B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E79C-4E5A-484E-93C6-6923AE37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B4C6-5756-4EF7-8369-EB54B495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B294-3C52-459B-89D5-8FFB3454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1726-3305-41A5-9E28-B5E3C62F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2CCF-A912-487F-83A8-E3EBEF5F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EC4F-919E-4D1B-9859-426E64A1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2C49-1573-4101-9D19-6532CD06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4001-8A4F-4D9F-8DF7-737CA7BE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F5B-720D-4873-8612-EFB79D41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9D81-B699-4423-8DA1-F59A860A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FE7C-68AE-4ADA-81E5-EE4EC313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59A-96DB-4F01-81CE-09F4221C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F17-2925-4F09-8DCA-3ABCAB6C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310-9660-4CA5-B3AC-018938A4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7F2-6607-4C48-8F9D-5FE8E235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EBDE-9407-40BC-8EB9-C84DD199A6B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002D-7E13-4C94-B00A-6BD7E0D00AC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d66.com/webhtml/project/neikexue/chuanranbingxue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Arial Black"/>
              </a:rPr>
              <a:t>学校常见的呼吸道传染病  及防控措施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49532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广州白云区疾病预防控制中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叶浩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125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b7"/>
                </a:solidFill>
                <a:latin typeface="宋体"/>
              </a:rPr>
              <a:t>六、流感预防措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7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285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易感人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2561400"/>
            <a:ext cx="2519280" cy="1161720"/>
          </a:xfrm>
          <a:prstGeom prst="rightArrow">
            <a:avLst>
              <a:gd name="adj1" fmla="val 50000"/>
              <a:gd name="adj2" fmla="val 5421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传播途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125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b7"/>
                </a:solidFill>
                <a:latin typeface="宋体"/>
              </a:rPr>
              <a:t>六、流感预防措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7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285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易感人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2561400"/>
            <a:ext cx="2519280" cy="1161720"/>
          </a:xfrm>
          <a:prstGeom prst="rightArrow">
            <a:avLst>
              <a:gd name="adj1" fmla="val 50000"/>
              <a:gd name="adj2" fmla="val 5421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传播途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2276640"/>
            <a:ext cx="936720" cy="172872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2708280"/>
            <a:ext cx="792360" cy="792000"/>
          </a:xfrm>
          <a:prstGeom prst="flowChartSummingJunction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1873080" cy="15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1125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b7"/>
                </a:solidFill>
                <a:latin typeface="宋体"/>
              </a:rPr>
              <a:t>六、流感预防措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27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285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易感人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2561400"/>
            <a:ext cx="2519280" cy="1161720"/>
          </a:xfrm>
          <a:prstGeom prst="rightArrow">
            <a:avLst>
              <a:gd name="adj1" fmla="val 50000"/>
              <a:gd name="adj2" fmla="val 5421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传播途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2060640"/>
            <a:ext cx="936360" cy="172872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708280"/>
            <a:ext cx="792360" cy="792000"/>
          </a:xfrm>
          <a:prstGeom prst="flowChartSummingJunction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1873080" cy="1531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07080" y="3716280"/>
            <a:ext cx="485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及时诊治、隔离病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0560" y="3645000"/>
            <a:ext cx="36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正确消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6320" y="3716280"/>
            <a:ext cx="485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家居、公共场所通风换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56560" y="3789360"/>
            <a:ext cx="7902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疫苗免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74160" y="3789360"/>
            <a:ext cx="7902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化学药物和中药预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06160" y="3789360"/>
            <a:ext cx="7902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个人必要防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7960" y="3716280"/>
            <a:ext cx="7902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暂停集会和集体娱乐活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37800" y="3789360"/>
            <a:ext cx="7902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良好的生活习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七、流感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早发现异常、早报告（人人有责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隔离患者  （热退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才可解除隔离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积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保持空气流通、停止聚会和集体活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必要时空气、物表消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良好的生活习惯、合理的营养，增强身体抵抗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个人的防护 ：带口罩、勤洗手、用肥皂或洗手液在流动水下洗手、不用污浊毛巾擦手、双手接触呼吸道分泌物后（如打喷嚏）要立即洗手。打喷嚏或咳嗽时应用物品掩住口鼻，避免飞沫污染他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中药预防 ：需在中医师的指导下进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疫苗免疫  接种时间每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至次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-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4360" y="1989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同一宿舍或者同一班级，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天内有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例或者连续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天内有多个人员（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例以上）出现流感样病例症状，单位疫情报告人应当在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小时内向疾控中心报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3933720"/>
            <a:ext cx="7848360" cy="971640"/>
          </a:xfrm>
          <a:prstGeom prst="rect">
            <a:avLst/>
          </a:prstGeom>
          <a:noFill/>
          <a:ln w="93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流感样病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influenza-liked illness(</a:t>
            </a:r>
            <a:r>
              <a:rPr b="0" lang="zh-CN" sz="2400" spc="-1" strike="noStrike">
                <a:solidFill>
                  <a:srgbClr val="ffffb7"/>
                </a:solidFill>
                <a:latin typeface="Times New Roman"/>
                <a:ea typeface="黑体"/>
              </a:rPr>
              <a:t>IL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体温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ffffb7"/>
                </a:solidFill>
                <a:latin typeface="黑体"/>
                <a:ea typeface="黑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伴咳嗽和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或咽喉疼痛之一急性呼吸道感染病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45720" y="1413720"/>
            <a:ext cx="6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Webdings"/>
                <a:ea typeface="Webdings"/>
              </a:rPr>
              <a:t></a:t>
            </a:r>
            <a:r>
              <a:rPr b="0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92360" y="692280"/>
            <a:ext cx="158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疫情报告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表现：本病潜伏期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左右。起病较急，可有发热、头痛、全身倦怠等前驱症状。在发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小时内出现皮疹，迅即变为米粒至豌豆大的圆型紧张水疱，周围明显红晕，有水疱的中央呈脐窝状。约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-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水疱干涸结痂，痂脱而愈，不留疤痕。皮损呈向心性分布，先自前颜部始，后见于躯干、四肢。数目多少不定以躯干为多，次于颜面、头部，四肢较少，掌跖更少。粘膜亦常受侵，见于口腔、咽部等处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1718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0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流行病学：水痘传染性强。患者为主要传染源，出疹前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至出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都有传染性。儿童与带状疱疹患者接触亦可发生水痘，因二者病因同一。传播途径主要是呼吸道飞沫或直接接触传染。也可接触污染的用物间接待染。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病以冬春季发病为主，主要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岁的儿童发病。人群普遍易感，但一次发病可终身免疫。本病传染性很强，易感者接触患者后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0%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发病，故幼儿园、小学等幼儿集体机构易引起流行。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0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水痘传染性很强，病人是唯一的传染源，与之接触的儿童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0%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发病。而且从发病前一日到全部皮疹干燥结痂均有传染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主要通过飞沫经呼吸道传染，接触被病毒污染的尘土、衣服、用具等也可能被传染。也就是说如果健康的儿童与患水痘的儿童经常一起玩耍、说话、密切接触都可感染而发病。所以一旦患了水痘应注意隔离，在完全治好以前不应去幼儿园或上学。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早发现异常、早报告（人人有责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隔离患者  （结瘕全部脱落后才可解除隔离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积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保持空气流通、停止聚会和集体活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必要时空气、物表消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立即应急接种水痘疫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7eb03"/>
                </a:solidFill>
                <a:latin typeface="华文行楷"/>
                <a:ea typeface="华文行楷"/>
              </a:rPr>
              <a:t>学校易发传染病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f7eb03"/>
              </a:buClr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新魏"/>
                <a:ea typeface="华文新魏"/>
              </a:rPr>
              <a:t>呼吸道传染病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流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麻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流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腮腺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风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水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f7eb03"/>
              </a:buClr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新魏"/>
                <a:ea typeface="华文新魏"/>
              </a:rPr>
              <a:t>肠道传染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手足口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麻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12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表现：本病潜伏期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左右。发热，一般逐渐升高，小儿也可骤发高热伴惊厥者 ；在发热同时出现咳嗽、喷嚏、流涕、眼结合膜充血、畏光、眼睑浮肿、咽部充血等卡他症状 ；于发热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~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开始出现皮疹，伴发热增高，症状加重，皮疹先见于耳后、发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渐及额、面、颈，自上而下蔓延到胸、背、腹及四肢最后达手掌与足底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~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出齐。皮疹初为淡红色斑丘疹，大小不等，压之退色 ；典型病例口腔粘膜有麻疹粘膜斑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Koplik’s spot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19920" y="152280"/>
            <a:ext cx="20955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麻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07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急性患者是唯一的传染源，从潜伏期最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-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至出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内都具有传染性。患者的口、鼻、咽、眼的分泌物均含有病毒，并随飞沫排出体外，故呼吸道飞沫为主要传播途径。四季均有可发病，以冬春季最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月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岁小儿发病率最高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近年广泛采用减毒麻疹疫苗作预防注射，其发病率已显著下降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风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症状：症状很象麻疹，但比麻疹轻，表现有咳嗽、流涕、喷嚏、咽痛、食欲不振，耳后及枕后淋巴结常常肿大，体温一般不太高，多为低热或中度发热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后面部出现浅红色稍稍凸起的斑丘疹，一天之内迅速蔓延至躯干和四肢，皮疹大小不等，可密集融合成片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~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后，皮疹迅速消退，而且不留色素沉着，其他症状也随之消失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15000" y="228600"/>
            <a:ext cx="26668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流行性腮腺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2057400" cy="19396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38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腮腺肿胀最具特征性。一般以耳垂为中心，向前、后、下发展，状如梨形，边缘不清；局部皮肤紧张，发亮但不发红，触之坚韧有弹性，有轻触痛；言语、咀嚼（尤其进酸性饮食）时刺激唾液分泌，导致疼痛加剧；通常一侧腮腺肿胀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累及对侧，挤压腮腺始终无脓性分泌物自开口处溢出。腮腺肿胀大多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到达高峰，持续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逐渐消退而回复正常。全程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隔离传染源。做好病例筛查和既往病例追访工作。对于麻疹病例，有肺炎等并发症者隔离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，无并发症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；风疹病例，有并发症者隔离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，无并发症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；流腮隔离期是发病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；水痘病例应隔离至皮疹全部结痂为止。坚决杜绝带病上课。待隔离期后，到地段医院保健科开据复课证明，方可入学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切断传播途径。嘱学校负责人，所有教室进行开窗通风、湿式扫除、对于学生经常接触的部位用消毒液擦拭，有条件的学校可在医院指导下进行紫外线灯空气消毒。建立晨午检记录，缺勤记录，消毒记录，传染病登记记录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护易感人群。在全校（园）范围内，组织学生进行麻风腮疫苗的应急接种工作。全校（园）进行查卡查证工作，没有的及时进行补卡补证，幼儿园、小学、初中要求儿童、学生卡证交学校统一管理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嘱学校负责人，做好与疾控中心，中小学保健所的沟通工作，近期内不要组织大型集会活动，在全校范围内开展预防呼吸道传染病健康教育工作（对于中学或大学，还要嘱咐如果学生发现有自觉症状，要主动向老师报告。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做好学校免疫预防工作，嘱医院保健科对该学校小学生疫苗的接种情况进行查漏补种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Arial Black"/>
              </a:rPr>
              <a:t>谢谢大家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流行性感冒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流行性感冒（简称流感）是由流感病毒引起的急性呼吸道</a:t>
            </a:r>
            <a:r>
              <a:rPr b="0" lang="zh-CN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传染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主要通过空气飞沫传播。流感病毒有甲、乙、丙三个型，其中甲型所引起的流感流行最为广泛和严重，乙型常引起爆发，丙型则多引起小儿散发病型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一、流行病学史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当地流行季节（我国北方的冬春季、南方的冬春和夏季），一个单位或地区出现大量呼吸道感染患者，或医院门诊、急诊上呼吸道感染患者明显增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二、临床表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通常表现为急起高热（腋下体温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8℃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，畏寒、头痛、头晕、浑身酸痛、乏力等中毒症状及咳嗽、咽痛等呼吸道症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少数病例有食欲减退，伴有腹痛、腹胀、呕吐和腹泻等消化道症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少数病例也可并发鼻窦炎、中耳炎、喉炎、支气管炎、肺炎等，甚至会呼吸循环衰竭而死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二、临床表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在两岁以下的幼儿，或原有慢性基础疾患者，两肺可有呼吸音降低，湿罗音或哮鸣音，但无肺实质体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外周血象总数不高或偏低，淋巴细胞相对增加，重症患者多有白细胞总数和淋巴细胞下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三、诊断原则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在非流行季节仅根据临床症状，流感很难与其他病原体，尤其是呼吸道病原体导致的疾病区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对流感病例的确诊需要实验室的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在流感季节，当一个单位或局部地区出现大量呼吸道感染者，有临床表现则可作为流感临床诊断病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四、诊断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诊断病例：具备流行病学史和临床表现中的任何一项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确诊病例：流感样病例并具备实验室检查中的任何一项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确诊病例：临床诊断病例并具备实验室检查中的任何一项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流感样病例定义：腋下体温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8℃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发热伴咳嗽或咽痛之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五、治疗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抗病毒治疗（对流感病毒作用不大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对症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重点防治并发症（年老多病者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叶浩风</cp:lastModifiedBy>
  <dcterms:modified xsi:type="dcterms:W3CDTF">2014-05-13T06:22:0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