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644D-CD2E-4F53-88BB-0FCACAFCB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8497-D750-49FE-A738-F79005DE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7E1D-ABE0-429B-8B98-4491D7722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A384-64CD-4EA5-B1AF-857C45FAB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214C-4710-4382-8281-88D531965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9F3F-650A-42D5-A5F4-72158B18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8987-DF45-4D06-9026-3D6A9F6C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4822-B1B4-485D-AFA3-41D03474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CE48-EC3D-4B6A-B6E8-CA6D008D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DD9D-BF57-428D-8E9F-B6F19BE3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00B7-28C9-4189-B7B5-632877DD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D168-FD4A-4087-8553-198B6A53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4EA0-6D56-451E-A5AC-874D6F69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FF55-E50F-4FDE-BD00-B65F3CDD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8ED7-6DD3-4328-BF88-2F993D39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9181-85A7-4761-B55D-7AEDA350F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FDB5-9AFC-4090-96E6-EE8FB0D7C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8FCD-925F-4689-985D-DBDA98C4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FCFB-E1C4-4836-88F4-4D541AC7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C53A-3859-4DC0-8280-3708FF82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0BAE-9C52-4142-B03C-C3E758D2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0078-43B1-45DA-968D-C428001D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F4E9-31EB-4ED7-9DB5-5253F5A3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555A-9181-4DA1-B2E7-841A2B6C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3D90-CB16-46A8-86CB-4DD6165C486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5602-424B-4A6A-92DD-38D43BCA8D7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ed66.com/webhtml/project/neikexue/chuanranbingxue.ht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Arial Black"/>
              </a:rPr>
              <a:t>学校常见的呼吸道传染病  及防控措施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449532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广州白云区疾病预防控制中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叶浩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4000" y="112536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b7"/>
                </a:solidFill>
                <a:latin typeface="宋体"/>
              </a:rPr>
              <a:t>六、流感预防措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2781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传染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285264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易感人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16360" y="2561400"/>
            <a:ext cx="2519280" cy="1161720"/>
          </a:xfrm>
          <a:prstGeom prst="rightArrow">
            <a:avLst>
              <a:gd name="adj1" fmla="val 50000"/>
              <a:gd name="adj2" fmla="val 54214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黑体"/>
                <a:ea typeface="黑体"/>
              </a:rPr>
              <a:t>传播途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4000" y="112536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b7"/>
                </a:solidFill>
                <a:latin typeface="宋体"/>
              </a:rPr>
              <a:t>六、流感预防措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2781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传染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285264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易感人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16360" y="2561400"/>
            <a:ext cx="2519280" cy="1161720"/>
          </a:xfrm>
          <a:prstGeom prst="rightArrow">
            <a:avLst>
              <a:gd name="adj1" fmla="val 50000"/>
              <a:gd name="adj2" fmla="val 54214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黑体"/>
                <a:ea typeface="黑体"/>
              </a:rPr>
              <a:t>传播途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92360" y="2276640"/>
            <a:ext cx="936720" cy="1728720"/>
          </a:xfrm>
          <a:prstGeom prst="lightningBolt">
            <a:avLst/>
          </a:prstGeom>
          <a:solidFill>
            <a:srgbClr val="0000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03280" y="2708280"/>
            <a:ext cx="792360" cy="792000"/>
          </a:xfrm>
          <a:prstGeom prst="flowChartSummingJunction">
            <a:avLst/>
          </a:prstGeom>
          <a:noFill/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651640" y="1844640"/>
            <a:ext cx="1873080" cy="153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112536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b7"/>
                </a:solidFill>
                <a:latin typeface="宋体"/>
              </a:rPr>
              <a:t>六、流感预防措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2781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传染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27640" y="285264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易感人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16360" y="2561400"/>
            <a:ext cx="2519280" cy="1161720"/>
          </a:xfrm>
          <a:prstGeom prst="rightArrow">
            <a:avLst>
              <a:gd name="adj1" fmla="val 50000"/>
              <a:gd name="adj2" fmla="val 54214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黑体"/>
                <a:ea typeface="黑体"/>
              </a:rPr>
              <a:t>传播途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19640" y="2060640"/>
            <a:ext cx="936360" cy="1728720"/>
          </a:xfrm>
          <a:prstGeom prst="lightningBolt">
            <a:avLst/>
          </a:prstGeom>
          <a:solidFill>
            <a:srgbClr val="0000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2708280"/>
            <a:ext cx="792360" cy="792000"/>
          </a:xfrm>
          <a:prstGeom prst="flowChartSummingJunction">
            <a:avLst/>
          </a:prstGeom>
          <a:noFill/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651640" y="1844640"/>
            <a:ext cx="1873080" cy="15318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207080" y="3716280"/>
            <a:ext cx="4852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Wingdings 2"/>
                <a:ea typeface="Wingdings 2"/>
              </a:rPr>
              <a:t>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及时诊治、隔离病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90560" y="3645000"/>
            <a:ext cx="36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Wingdings 2"/>
                <a:ea typeface="Wingdings 2"/>
              </a:rPr>
              <a:t>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正确消毒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96320" y="3716280"/>
            <a:ext cx="4852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Wingdings 2"/>
                <a:ea typeface="Wingdings 2"/>
              </a:rPr>
              <a:t>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家居、公共场所通风换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56560" y="3789360"/>
            <a:ext cx="7902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Wingdings 2"/>
                <a:ea typeface="Wingdings 2"/>
              </a:rPr>
              <a:t>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疫苗免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74160" y="3789360"/>
            <a:ext cx="7902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Wingdings 2"/>
                <a:ea typeface="Wingdings 2"/>
              </a:rPr>
              <a:t>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化学药物和中药预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06160" y="3789360"/>
            <a:ext cx="7902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Wingdings 2"/>
                <a:ea typeface="Wingdings 2"/>
              </a:rPr>
              <a:t>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个人必要防护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27960" y="3716280"/>
            <a:ext cx="79020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Wingdings 2"/>
                <a:ea typeface="Wingdings 2"/>
              </a:rPr>
              <a:t>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暂停集会和集体娱乐活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37800" y="3789360"/>
            <a:ext cx="7902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Wingdings 2"/>
                <a:ea typeface="Wingdings 2"/>
              </a:rPr>
              <a:t>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良好的生活习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七、流感控制措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早发现异常、早报告（人人有责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隔离患者  （热退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才可解除隔离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积极治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保持空气流通、停止聚会和集体活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必要时空气、物表消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良好的生活习惯、合理的营养，增强身体抵抗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个人的防护 ：带口罩、勤洗手、用肥皂或洗手液在流动水下洗手、不用污浊毛巾擦手、双手接触呼吸道分泌物后（如打喷嚏）要立即洗手。打喷嚏或咳嗽时应用物品掩住口鼻，避免飞沫污染他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中药预防 ：需在中医师的指导下进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疫苗免疫  接种时间每年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月至次年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4-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月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4360" y="198900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在同一宿舍或者同一班级，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天内有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例或者连续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天内有多个人员（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例以上）出现流感样病例症状，单位疫情报告人应当在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24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小时内向疾控中心报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3933720"/>
            <a:ext cx="7848360" cy="971640"/>
          </a:xfrm>
          <a:prstGeom prst="rect">
            <a:avLst/>
          </a:prstGeom>
          <a:noFill/>
          <a:ln w="936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流感样病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influenza-liked illness(</a:t>
            </a:r>
            <a:r>
              <a:rPr b="0" lang="zh-CN" sz="2400" spc="-1" strike="noStrike">
                <a:solidFill>
                  <a:srgbClr val="ffffb7"/>
                </a:solidFill>
                <a:latin typeface="Times New Roman"/>
                <a:ea typeface="黑体"/>
              </a:rPr>
              <a:t>IL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体温≥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38℃</a:t>
            </a:r>
            <a:r>
              <a:rPr b="0" lang="zh-CN" sz="2400" spc="-1" strike="noStrike">
                <a:solidFill>
                  <a:srgbClr val="ffffb7"/>
                </a:solidFill>
                <a:latin typeface="黑体"/>
                <a:ea typeface="黑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伴咳嗽和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或咽喉疼痛之一急性呼吸道感染病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45720" y="1413720"/>
            <a:ext cx="65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Webdings"/>
                <a:ea typeface="Webdings"/>
              </a:rPr>
              <a:t></a:t>
            </a:r>
            <a:r>
              <a:rPr b="0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492360" y="692280"/>
            <a:ext cx="1584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疫情报告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水痘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07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临床表现：本病潜伏期为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日左右。起病较急，可有发热、头痛、全身倦怠等前驱症状。在发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小时内出现皮疹，迅即变为米粒至豌豆大的圆型紧张水疱，周围明显红晕，有水疱的中央呈脐窝状。约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-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水疱干涸结痂，痂脱而愈，不留疤痕。皮损呈向心性分布，先自前颜部始，后见于躯干、四肢。数目多少不定以躯干为多，次于颜面、头部，四肢较少，掌跖更少。粘膜亦常受侵，见于口腔、咽部等处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324480" y="152280"/>
            <a:ext cx="217188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水痘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07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流行病学：水痘传染性强。患者为主要传染源，出疹前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至出疹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都有传染性。儿童与带状疱疹患者接触亦可发生水痘，因二者病因同一。传播途径主要是呼吸道飞沫或直接接触传染。也可接触污染的用物间接待染。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本病以冬春季发病为主，主要为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岁的儿童发病。人群普遍易感，但一次发病可终身免疫。本病传染性很强，易感者接触患者后约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90%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发病，故幼儿园、小学等幼儿集体机构易引起流行。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水痘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007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水痘传染性很强，病人是唯一的传染源，与之接触的儿童约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90%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发病。而且从发病前一日到全部皮疹干燥结痂均有传染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主要通过飞沫经呼吸道传染，接触被病毒污染的尘土、衣服、用具等也可能被传染。也就是说如果健康的儿童与患水痘的儿童经常一起玩耍、说话、密切接触都可感染而发病。所以一旦患了水痘应注意隔离，在完全治好以前不应去幼儿园或上学。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水痘控制措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早发现异常、早报告（人人有责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隔离患者  （结瘕全部脱落后才可解除隔离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积极治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保持空气流通、停止聚会和集体活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必要时空气、物表消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立即应急接种水痘疫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7eb03"/>
                </a:solidFill>
                <a:latin typeface="华文行楷"/>
                <a:ea typeface="华文行楷"/>
              </a:rPr>
              <a:t>学校易发传染病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f7eb03"/>
              </a:buClr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华文新魏"/>
                <a:ea typeface="华文新魏"/>
              </a:rPr>
              <a:t>呼吸道传染病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15000"/>
              </a:lnSpc>
              <a:spcBef>
                <a:spcPts val="601"/>
              </a:spcBef>
              <a:buClr>
                <a:srgbClr val="f7eb0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华文新魏"/>
                <a:ea typeface="华文新魏"/>
              </a:rPr>
              <a:t>流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15000"/>
              </a:lnSpc>
              <a:spcBef>
                <a:spcPts val="601"/>
              </a:spcBef>
              <a:buClr>
                <a:srgbClr val="f7eb0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华文新魏"/>
                <a:ea typeface="华文新魏"/>
              </a:rPr>
              <a:t>麻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15000"/>
              </a:lnSpc>
              <a:spcBef>
                <a:spcPts val="601"/>
              </a:spcBef>
              <a:buClr>
                <a:srgbClr val="f7eb0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华文新魏"/>
                <a:ea typeface="华文新魏"/>
              </a:rPr>
              <a:t>流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15000"/>
              </a:lnSpc>
              <a:spcBef>
                <a:spcPts val="601"/>
              </a:spcBef>
              <a:buClr>
                <a:srgbClr val="f7eb0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华文新魏"/>
                <a:ea typeface="华文新魏"/>
              </a:rPr>
              <a:t>腮腺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15000"/>
              </a:lnSpc>
              <a:spcBef>
                <a:spcPts val="601"/>
              </a:spcBef>
              <a:buClr>
                <a:srgbClr val="f7eb0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华文新魏"/>
                <a:ea typeface="华文新魏"/>
              </a:rPr>
              <a:t>风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15000"/>
              </a:lnSpc>
              <a:spcBef>
                <a:spcPts val="601"/>
              </a:spcBef>
              <a:buClr>
                <a:srgbClr val="f7eb0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华文新魏"/>
                <a:ea typeface="华文新魏"/>
              </a:rPr>
              <a:t>水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f7eb03"/>
              </a:buClr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华文新魏"/>
                <a:ea typeface="华文新魏"/>
              </a:rPr>
              <a:t>肠道传染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15000"/>
              </a:lnSpc>
              <a:spcBef>
                <a:spcPts val="601"/>
              </a:spcBef>
              <a:buClr>
                <a:srgbClr val="f7eb0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华文新魏"/>
                <a:ea typeface="华文新魏"/>
              </a:rPr>
              <a:t>手足口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麻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12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临床表现：本病潜伏期为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左右。发热，一般逐渐升高，小儿也可骤发高热伴惊厥者 ；在发热同时出现咳嗽、喷嚏、流涕、眼结合膜充血、畏光、眼睑浮肿、咽部充血等卡他症状 ；于发热第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~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日开始出现皮疹，伴发热增高，症状加重，皮疹先见于耳后、发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渐及额、面、颈，自上而下蔓延到胸、背、腹及四肢最后达手掌与足底，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~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日出齐。皮疹初为淡红色斑丘疹，大小不等，压之退色 ；典型病例口腔粘膜有麻疹粘膜斑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Koplik’s spots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19920" y="152280"/>
            <a:ext cx="20955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麻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007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急性患者是唯一的传染源，从潜伏期最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-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至出疹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内都具有传染性。患者的口、鼻、咽、眼的分泌物均含有病毒，并随飞沫排出体外，故呼吸道飞沫为主要传播途径。四季均有可发病，以冬春季最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个月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岁小儿发病率最高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近年广泛采用减毒麻疹疫苗作预防注射，其发病率已显著下降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风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临床症状：症状很象麻疹，但比麻疹轻，表现有咳嗽、流涕、喷嚏、咽痛、食欲不振，耳后及枕后淋巴结常常肿大，体温一般不太高，多为低热或中度发热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~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后面部出现浅红色稍稍凸起的斑丘疹，一天之内迅速蔓延至躯干和四肢，皮疹大小不等，可密集融合成片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~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后，皮疹迅速消退，而且不留色素沉着，其他症状也随之消失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715000" y="228600"/>
            <a:ext cx="266688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流行性腮腺炎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172200" y="304920"/>
            <a:ext cx="2057400" cy="19396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388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腮腺肿胀最具特征性。一般以耳垂为中心，向前、后、下发展，状如梨形，边缘不清；局部皮肤紧张，发亮但不发红，触之坚韧有弹性，有轻触痛；言语、咀嚼（尤其进酸性饮食）时刺激唾液分泌，导致疼痛加剧；通常一侧腮腺肿胀后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天累及对侧，挤压腮腺始终无脓性分泌物自开口处溢出。腮腺肿胀大多于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天到达高峰，持续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天逐渐消退而回复正常。全程约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天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控制措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隔离传染源。做好病例筛查和既往病例追访工作。对于麻疹病例，有肺炎等并发症者隔离至疹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，无并发症至疹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；风疹病例，有并发症者隔离至疹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，无并发症至疹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；流腮隔离期是发病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；水痘病例应隔离至皮疹全部结痂为止。坚决杜绝带病上课。待隔离期后，到地段医院保健科开据复课证明，方可入学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控制措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切断传播途径。嘱学校负责人，所有教室进行开窗通风、湿式扫除、对于学生经常接触的部位用消毒液擦拭，有条件的学校可在医院指导下进行紫外线灯空气消毒。建立晨午检记录，缺勤记录，消毒记录，传染病登记记录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控制措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保护易感人群。在全校（园）范围内，组织学生进行麻风腮疫苗的应急接种工作。全校（园）进行查卡查证工作，没有的及时进行补卡补证，幼儿园、小学、初中要求儿童、学生卡证交学校统一管理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控制措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0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嘱学校负责人，做好与疾控中心，中小学保健所的沟通工作，近期内不要组织大型集会活动，在全校范围内开展预防呼吸道传染病健康教育工作（对于中学或大学，还要嘱咐如果学生发现有自觉症状，要主动向老师报告。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做好学校免疫预防工作，嘱医院保健科对该学校小学生疫苗的接种情况进行查漏补种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Arial Black"/>
              </a:rPr>
              <a:t>谢谢大家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流行性感冒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流行性感冒（简称流感）是由流感病毒引起的急性呼吸道</a:t>
            </a:r>
            <a:r>
              <a:rPr b="0" lang="zh-CN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传染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主要通过空气飞沫传播。流感病毒有甲、乙、丙三个型，其中甲型所引起的流感流行最为广泛和严重，乙型常引起爆发，丙型则多引起小儿散发病型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ffb7"/>
                </a:solidFill>
                <a:latin typeface="Arial Black"/>
              </a:rPr>
              <a:t>一、流行病学史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在当地流行季节（我国北方的冬春季、南方的冬春和夏季），一个单位或地区出现大量呼吸道感染患者，或医院门诊、急诊上呼吸道感染患者明显增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二、临床表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通常表现为急起高热（腋下体温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8℃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，畏寒、头痛、头晕、浑身酸痛、乏力等中毒症状及咳嗽、咽痛等呼吸道症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少数病例有食欲减退，伴有腹痛、腹胀、呕吐和腹泻等消化道症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少数病例也可并发鼻窦炎、中耳炎、喉炎、支气管炎、肺炎等，甚至会呼吸循环衰竭而死亡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二、临床表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在两岁以下的幼儿，或原有慢性基础疾患者，两肺可有呼吸音降低，湿罗音或哮鸣音，但无肺实质体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外周血象总数不高或偏低，淋巴细胞相对增加，重症患者多有白细胞总数和淋巴细胞下降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三、诊断原则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在非流行季节仅根据临床症状，流感很难与其他病原体，尤其是呼吸道病原体导致的疾病区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对流感病例的确诊需要实验室的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在流感季节，当一个单位或局部地区出现大量呼吸道感染者，有临床表现则可作为流感临床诊断病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四、诊断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临床诊断病例：具备流行病学史和临床表现中的任何一项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确诊病例：流感样病例并具备实验室检查中的任何一项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确诊病例：临床诊断病例并具备实验室检查中的任何一项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流感样病例定义：腋下体温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8℃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发热伴咳嗽或咽痛之一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五、治疗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抗病毒治疗（对流感病毒作用不大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对症治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重点防治并发症（年老多病者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叶浩风</cp:lastModifiedBy>
  <dcterms:modified xsi:type="dcterms:W3CDTF">2014-05-13T06:22:0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